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E28-6726-4C60-8817-969EF5DF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489-242F-4980-8EED-E82C2F2E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272-5C87-45FB-B84F-F27A9DCD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400-FE53-4EB6-B416-021926E6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241-7614-40AD-913E-45702398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5D9-21C2-4A65-8DA2-910AC4A4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85A-0178-4255-B453-8C2D3B1A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9B2-6477-4D85-BF08-1DDAEF49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FE1-29B7-4CE3-9F14-948A9911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C58-D0A0-4B97-B4CE-6F94DD4C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DB3-D2AB-4937-BA6D-06FE5AF4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E6B-2215-4821-AACC-FB9DFB99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70BA-0EAE-4064-9FB2-50D48FCE3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ve virtual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3428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sten Vere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us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ion from malicious h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orfe func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eer de invoer van het program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at het programma rekenen met geencrypteerd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eer het resultaat te ontcijf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b.: data is 0b11110000 -&gt; 0b11101000 (not middenste 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eken nu xor -&gt; decrypt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l id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eer programma -&gt; construeer homomorf program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en hierm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ypteer resulta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praktisch geeft elk programma zijn eigen interpreter -&gt; R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fication of computatio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+ stackloop + thu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t-compiler to add new thunks/opt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ing thunks not perform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nk descrip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nks + stackloop need to be func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fication of the computatio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/A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-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form-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reification computational st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ag -&gt; done in p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stack -&gt; functional interpr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memory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primitive reification: combining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&gt;b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 a; eval b; type switching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hecks; simple function (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 a, type switch + error checks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fucntion (20 li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&lt;=b : not(a&lt;b)  -&gt;  (70 lines of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828800"/>
            <a:ext cx="82296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d P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(a) :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(nbr(a), nbr(b)) : make_nbr(nbr(a)+</a:t>
            </a:r>
            <a:r>
              <a:rPr b="0" lang="en-US" sz="1800" spc="-1" strike="noStrike" baseline="6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r(b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(nbr(a), float(b)) : make_float(nbr(a)+</a:t>
            </a:r>
            <a:r>
              <a:rPr b="0" lang="en-US" sz="1800" spc="-1" strike="noStrike" baseline="6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(b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+ is C p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to the poin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over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 + type infere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hu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d thunks = labels (fun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 stack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hu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formance degradation when combining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nly for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rewrite VM even at run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/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writen metacirculaire in P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fieren stack + memor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serialisatie + 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contro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13:37:14Z</dcterms:created>
  <dc:creator>Karsten Verelst</dc:creator>
  <dc:description/>
  <dc:language>en-US</dc:language>
  <cp:lastModifiedBy>Karsten Verelst</cp:lastModifiedBy>
  <dcterms:modified xsi:type="dcterms:W3CDTF">2001-02-23T04:20:43Z</dcterms:modified>
  <cp:revision>5</cp:revision>
  <dc:subject/>
  <dc:title>Reflective virtual machines</dc:title>
</cp:coreProperties>
</file>